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38E1-4BAF-4E6A-A255-B5961F7173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0F5F0B-F7FF-448F-A976-B8B2F81660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939960" y="4352760"/>
            <a:ext cx="5014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17C4-1F88-4D34-B806-4597CA6CA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37C6-E11C-4DE3-B558-91AFCEC4A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235D-3037-44BA-B3BB-78A31F014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F200-BA22-45F0-986A-46F9E382B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1359-888B-4583-AC70-30CB040EED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29DD-5662-4C4D-9DBA-CF8F5A9D75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986E-3F2A-4DC7-8CA6-E3A9B6D847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006B-9E2D-4D24-B583-05FAE53F4F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A64F-C233-4835-BD6D-BE769E51C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8368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2D60-EA65-4873-B26D-99CF26174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41F8-9F2A-4F2E-B0FE-D7A0706E1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4D7B-DD57-4B13-AA46-348FB582F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B105-F426-470F-8B9A-F7EE6BB7A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94F6-43FE-494E-9B76-64DF85B4DE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49DD-ED10-4B4E-9DC3-ED4933527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1AF2-5FAF-42CD-9D1E-9C4BD178B3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99C1-9D6B-461B-A223-AFF7E1723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F916-DF8B-4A1A-B607-6EE7B2812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8432-64A1-4153-B4EA-2D05EF55E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7607-FFB8-41A2-B6F9-576CA9EF0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8368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A3A3-9876-4F94-99C2-B19FF7B54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18F6-FEBE-4589-8BC3-6D316FFAE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70BA-0E29-428C-908D-9576AB2FA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3A05-EEB9-4DB0-8DE6-5B87C35F4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4480" cy="223848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09200" cy="502776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4480" cy="2202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2320" cy="442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4640" cy="28321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4280" cy="224640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69120" cy="442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6080" cy="224640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DE2C0A-9A23-46B9-BB74-1CB65564F6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09200" cy="510408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4480" cy="304668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3520" cy="442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7720" cy="4464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6080" cy="310680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4640" cy="51181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22AE7-70FE-4A77-A586-A756A703C5F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Cerebrovaskularne bolesti</a:t>
            </a:r>
            <a:br>
              <a:rPr sz="4800"/>
            </a:br>
            <a:r>
              <a:rPr b="1" lang="sr-Latn-CS" sz="4800" spc="-1" strike="noStrike">
                <a:solidFill>
                  <a:srgbClr val="ffffb7"/>
                </a:solidFill>
                <a:latin typeface="Comic Sans MS"/>
              </a:rPr>
              <a:t>Faktori rizika i prevencij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Gordana Tonč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Ali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Prvi uzrok netraumatske invalid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Depres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Vaskularna dem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10 vizita lekara godišnje –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Recidiv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unutar 72 sata od I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unutar 30 dana od I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4400" spc="-1" strike="noStrike">
                <a:solidFill>
                  <a:srgbClr val="ffffb7"/>
                </a:solidFill>
                <a:latin typeface="Comic Sans MS"/>
              </a:rPr>
              <a:t>Moždani udar - heterogena bol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1844640"/>
            <a:ext cx="8881920" cy="4646520"/>
            <a:chOff x="0" y="1844640"/>
            <a:chExt cx="8881920" cy="4646520"/>
          </a:xfrm>
        </p:grpSpPr>
        <p:graphicFrame>
          <p:nvGraphicFramePr>
            <p:cNvPr id="148" name=""/>
            <p:cNvGraphicFramePr/>
            <p:nvPr/>
          </p:nvGraphicFramePr>
          <p:xfrm>
            <a:off x="0" y="1859040"/>
            <a:ext cx="4691160" cy="461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59040"/>
                      <a:ext cx="4691160" cy="46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4822920" y="1844640"/>
              <a:ext cx="4059000" cy="464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41760" y="3294000"/>
            <a:ext cx="1149120" cy="3375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210440" y="3321000"/>
            <a:ext cx="1149480" cy="337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3680" y="0"/>
            <a:ext cx="54259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4400" spc="-1" strike="noStrike">
                <a:solidFill>
                  <a:srgbClr val="ffffb7"/>
                </a:solidFill>
                <a:latin typeface="Comic Sans MS"/>
              </a:rPr>
              <a:t>Etiologij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9600" y="1917720"/>
            <a:ext cx="41115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kluzija 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I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8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360" y="3755880"/>
            <a:ext cx="1915920" cy="798480"/>
            <a:chOff x="990360" y="3755880"/>
            <a:chExt cx="1915920" cy="798480"/>
          </a:xfrm>
        </p:grpSpPr>
        <p:sp>
          <p:nvSpPr>
            <p:cNvPr id="156" name=""/>
            <p:cNvSpPr/>
            <p:nvPr/>
          </p:nvSpPr>
          <p:spPr>
            <a:xfrm rot="5400000">
              <a:off x="1617840" y="3236040"/>
              <a:ext cx="587520" cy="1842840"/>
            </a:xfrm>
            <a:prstGeom prst="can">
              <a:avLst>
                <a:gd name="adj" fmla="val 18689"/>
              </a:avLst>
            </a:prstGeom>
            <a:solidFill>
              <a:srgbClr val="99cc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1555920" y="3204000"/>
              <a:ext cx="798480" cy="190188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5000"/>
              </a:srgbClr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5400000">
            <a:off x="1817280" y="3858840"/>
            <a:ext cx="552240" cy="613080"/>
          </a:xfrm>
          <a:prstGeom prst="ellipse">
            <a:avLst/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19880" y="4576680"/>
            <a:ext cx="588960" cy="1219320"/>
          </a:xfrm>
          <a:prstGeom prst="can">
            <a:avLst>
              <a:gd name="adj" fmla="val 23569"/>
            </a:avLst>
          </a:prstGeom>
          <a:solidFill>
            <a:srgbClr val="99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4535640"/>
            <a:ext cx="800280" cy="1257120"/>
          </a:xfrm>
          <a:prstGeom prst="can">
            <a:avLst>
              <a:gd name="adj" fmla="val 29671"/>
            </a:avLst>
          </a:prstGeom>
          <a:solidFill>
            <a:srgbClr val="99cc00">
              <a:alpha val="55000"/>
            </a:srgbClr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920000">
            <a:off x="6189840" y="3633480"/>
            <a:ext cx="588960" cy="1219320"/>
          </a:xfrm>
          <a:prstGeom prst="can">
            <a:avLst>
              <a:gd name="adj" fmla="val 23569"/>
            </a:avLst>
          </a:prstGeom>
          <a:solidFill>
            <a:srgbClr val="99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920000">
            <a:off x="6082920" y="3592080"/>
            <a:ext cx="800280" cy="1257480"/>
          </a:xfrm>
          <a:prstGeom prst="can">
            <a:avLst>
              <a:gd name="adj" fmla="val 29671"/>
            </a:avLst>
          </a:prstGeom>
          <a:solidFill>
            <a:srgbClr val="99cc00">
              <a:alpha val="55000"/>
            </a:srgbClr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78720" y="3875040"/>
            <a:ext cx="1576440" cy="1006560"/>
          </a:xfrm>
          <a:prstGeom prst="pie">
            <a:avLst/>
          </a:prstGeom>
          <a:solidFill>
            <a:srgbClr val="ff3300">
              <a:alpha val="53000"/>
            </a:srgbClr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3880" y="1917720"/>
            <a:ext cx="5010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Krvavljenje 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AH i 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03480" y="3305160"/>
            <a:ext cx="61920" cy="716040"/>
          </a:xfrm>
          <a:prstGeom prst="line">
            <a:avLst/>
          </a:prstGeom>
          <a:ln cap="sq"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3309840"/>
            <a:ext cx="350640" cy="884160"/>
          </a:xfrm>
          <a:prstGeom prst="line">
            <a:avLst/>
          </a:prstGeom>
          <a:ln cap="sq"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632040"/>
            <a:ext cx="987480" cy="654120"/>
          </a:xfrm>
          <a:prstGeom prst="line">
            <a:avLst/>
          </a:prstGeom>
          <a:ln cap="sq"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871360" y="3618000"/>
            <a:ext cx="1035000" cy="682560"/>
          </a:xfrm>
          <a:prstGeom prst="line">
            <a:avLst/>
          </a:prstGeom>
          <a:ln cap="sq"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2520" y="5845320"/>
            <a:ext cx="987480" cy="653760"/>
          </a:xfrm>
          <a:prstGeom prst="line">
            <a:avLst/>
          </a:prstGeom>
          <a:ln cap="sq"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768400" y="5830920"/>
            <a:ext cx="1035000" cy="682560"/>
          </a:xfrm>
          <a:prstGeom prst="line">
            <a:avLst/>
          </a:prstGeom>
          <a:ln cap="sq"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Faktori rizika za 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I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H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- S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- 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Faktori riz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637000"/>
            <a:ext cx="80074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Na koje se ne može utic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Na koje se može utic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1149480" cy="33750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132000" y="3645000"/>
            <a:ext cx="1915920" cy="798480"/>
            <a:chOff x="3132000" y="3645000"/>
            <a:chExt cx="1915920" cy="798480"/>
          </a:xfrm>
        </p:grpSpPr>
        <p:sp>
          <p:nvSpPr>
            <p:cNvPr id="179" name=""/>
            <p:cNvSpPr/>
            <p:nvPr/>
          </p:nvSpPr>
          <p:spPr>
            <a:xfrm rot="5400000">
              <a:off x="3759840" y="3124800"/>
              <a:ext cx="587160" cy="1843200"/>
            </a:xfrm>
            <a:prstGeom prst="can">
              <a:avLst>
                <a:gd name="adj" fmla="val 18689"/>
              </a:avLst>
            </a:prstGeom>
            <a:solidFill>
              <a:srgbClr val="99cc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3697560" y="3093120"/>
              <a:ext cx="798480" cy="190188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5000"/>
              </a:srgbClr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5400000">
            <a:off x="3595320" y="3760560"/>
            <a:ext cx="552600" cy="612720"/>
          </a:xfrm>
          <a:prstGeom prst="ellipse">
            <a:avLst/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30560" y="5013360"/>
            <a:ext cx="1035000" cy="682560"/>
          </a:xfrm>
          <a:prstGeom prst="line">
            <a:avLst/>
          </a:prstGeom>
          <a:ln cap="sq"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001840" y="2781360"/>
            <a:ext cx="1035000" cy="682560"/>
          </a:xfrm>
          <a:prstGeom prst="line">
            <a:avLst/>
          </a:prstGeom>
          <a:ln cap="sq"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0492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Prema brzini razvoja i trajanja simpt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3200" spc="-1" strike="noStrike">
                <a:solidFill>
                  <a:srgbClr val="ffff66"/>
                </a:solidFill>
                <a:latin typeface="Comic Sans MS"/>
              </a:rPr>
              <a:t>1. Tranzitorni ishemični atak - 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3200" spc="-1" strike="noStrike">
                <a:solidFill>
                  <a:srgbClr val="ffff66"/>
                </a:solidFill>
                <a:latin typeface="Comic Sans MS"/>
              </a:rPr>
              <a:t>2. Kompletan ili stabilan 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Faktori rizika </a:t>
            </a:r>
            <a:br>
              <a:rPr sz="4400"/>
            </a:b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na koje se ne može utic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2708280"/>
            <a:ext cx="8964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tarost - posle 55 godina sa svakom decenijom rizik se udvostruču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Pol – veći rizik kod muškara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Rasa – veći rizik u beloj 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Nasleđe – genetski faktori, faktori sredine, stil života (zajednički za jednu porodic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244440"/>
            <a:ext cx="83851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Faktori rizika 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na koje se može utic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Hipertenzija – 3x veći ri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uspešnost lečenja 50% m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Fibrilacija pretkom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5% mlađih MU, 30% preko 80 godin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antikoagulantna th smanjujerizik za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Vaskularne bole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Moždani u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Infarkt miokar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Periferna vaskularna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10538" r="0" b="18169"/>
          <a:stretch/>
        </p:blipFill>
        <p:spPr>
          <a:xfrm>
            <a:off x="3348000" y="112536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Bolesti sr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kardiomiopat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koronarna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olesti zalistaka i 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amo 14% MU nema srčano oboljenje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Šećerna bol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povećava rizik 2 pu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Dislipidem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amo za karot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Pušenje cigare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povećan rizik za 50% čak i kod pasivnih pušač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2 godine nakon prestanka pušenja rizik manji za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normalizuje se posle 5-9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Potencijalni faktori riz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Nepovoljni efekat postoji ali nije dovoljno dokumento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Gojaz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Fizička neak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Način ish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Zloupotreba alkoh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Hiperhomocisteine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upstituciona hormonska tera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Upotreba oralnih kontracep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Tranzitorni ishemični at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276640"/>
            <a:ext cx="80074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Alarm da postoji ozbiljno oštećenje moždane cirkul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Veliki faktor rizika za razvoj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Uzrok isti kao kod MU – hipoperfu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embo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trombo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imptomi se povlače za 15-60 minuta (amaurosis fugax – manje od 5 minu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Tranzitorni ishemični at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905120"/>
            <a:ext cx="800748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Karotidni sl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amaurosis fug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disfa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hemipareza kontralater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kontralateralne hemianops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Vertebrobazilarni sl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diplopije, vertigo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dizartrija/disfag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alterni sindromi, hemipareze, kvadripare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obostrani gubitak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gubitak svesti (retk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Tranzitorni ishemični at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50 % bolesnika umre unutar 5 godina od 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Dg postupak istikao kod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Prevencija ista kao kod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Comic Sans MS"/>
              </a:rPr>
              <a:t>Terapija 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kivni aktivator plazminogena t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altepl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tiagregaciona terap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uroprotekc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</a:t>
            </a: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šte mere – disa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- priti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- tempera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Hemoragijski moždani ud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9920000">
            <a:off x="6084360" y="2566800"/>
            <a:ext cx="800280" cy="1257120"/>
          </a:xfrm>
          <a:prstGeom prst="can">
            <a:avLst>
              <a:gd name="adj" fmla="val 29671"/>
            </a:avLst>
          </a:prstGeom>
          <a:solidFill>
            <a:srgbClr val="99cc00">
              <a:alpha val="55000"/>
            </a:srgbClr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3573360"/>
            <a:ext cx="800280" cy="1257480"/>
          </a:xfrm>
          <a:prstGeom prst="can">
            <a:avLst>
              <a:gd name="adj" fmla="val 29671"/>
            </a:avLst>
          </a:prstGeom>
          <a:solidFill>
            <a:srgbClr val="99cc00">
              <a:alpha val="55000"/>
            </a:srgbClr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6000" y="2565360"/>
            <a:ext cx="1149120" cy="3375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659640" y="2924280"/>
            <a:ext cx="1576440" cy="1006200"/>
          </a:xfrm>
          <a:prstGeom prst="pie">
            <a:avLst/>
          </a:prstGeom>
          <a:solidFill>
            <a:srgbClr val="ff3300">
              <a:alpha val="53000"/>
            </a:srgbClr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Vaskularne bole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U osnovi aterosklero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Dele većinu faktora riz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često koegzistiraj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ali ima i razl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52680" y="1447920"/>
            <a:ext cx="7577280" cy="3773160"/>
            <a:chOff x="3352680" y="1447920"/>
            <a:chExt cx="7577280" cy="3773160"/>
          </a:xfrm>
        </p:grpSpPr>
        <p:sp>
          <p:nvSpPr>
            <p:cNvPr id="114" name=""/>
            <p:cNvSpPr/>
            <p:nvPr/>
          </p:nvSpPr>
          <p:spPr>
            <a:xfrm>
              <a:off x="6219720" y="1614600"/>
              <a:ext cx="1192320" cy="1119600"/>
            </a:xfrm>
            <a:prstGeom prst="pie">
              <a:avLst/>
            </a:pr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22960" y="2568960"/>
              <a:ext cx="1184400" cy="1063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16600" y="2735640"/>
              <a:ext cx="1187640" cy="1063800"/>
            </a:xfrm>
            <a:prstGeom prst="pie">
              <a:avLst/>
            </a:prstGeom>
            <a:solidFill>
              <a:srgbClr val="c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53000" y="2696040"/>
              <a:ext cx="1262160" cy="1103400"/>
            </a:xfrm>
            <a:prstGeom prst="pie">
              <a:avLst/>
            </a:prstGeom>
            <a:solidFill>
              <a:srgbClr val="1b9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4680" y="1447920"/>
              <a:ext cx="1861920" cy="21866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16600" y="1447920"/>
              <a:ext cx="1860840" cy="2224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5120" y="1633680"/>
              <a:ext cx="22748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680" y="1635120"/>
              <a:ext cx="2075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35920" y="486072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9520" y="2210040"/>
              <a:ext cx="603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M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4840" y="3240720"/>
              <a:ext cx="75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3.8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42760" y="3232800"/>
              <a:ext cx="89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11.8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8760" y="222300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K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3480" y="2838960"/>
              <a:ext cx="760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3.3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1160" y="1976400"/>
              <a:ext cx="760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7.4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48320" y="3634560"/>
              <a:ext cx="2459160" cy="128952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2720" y="4020480"/>
              <a:ext cx="66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PV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Hemoragični moždani u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ubarahnoidalna hemoragija 5-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spont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traumat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Intracerebralna hemoragija 10-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S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Comic Sans MS"/>
              </a:rPr>
              <a:t>S</a:t>
            </a:r>
            <a:r>
              <a:rPr b="0" lang="sr-Latn-CS" sz="3600" spc="-1" strike="noStrike">
                <a:solidFill>
                  <a:srgbClr val="ffffb7"/>
                </a:solidFill>
                <a:latin typeface="Comic Sans MS"/>
              </a:rPr>
              <a:t>ubarahnoidalna hemorag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916280"/>
            <a:ext cx="882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95% - zbog rupture aneuriz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% populacije ima aneuriz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di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ja incidenca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A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– 14/ 10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toku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vota krvari 15 – 20 %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euriz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pture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najčešć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zmedju 40 i 60 god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0% ruptura u s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% pacijenata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ozoravaju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ć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na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c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6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dana pre S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Comic Sans MS"/>
              </a:rPr>
              <a:t>S</a:t>
            </a:r>
            <a:r>
              <a:rPr b="0" lang="sr-Latn-CS" sz="4000" spc="-1" strike="noStrike">
                <a:solidFill>
                  <a:srgbClr val="ffffb7"/>
                </a:solidFill>
                <a:latin typeface="Comic Sans MS"/>
              </a:rPr>
              <a:t>ubarahnoidalna hemoragij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H se kompliku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CH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– 4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VH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5 –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bduralnim hematomom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–5 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% pacijenata umire u prvom mes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/3 umire naglo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tokom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d ostalih 50% ima zadovoljavaju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is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Faktori rizika </a:t>
            </a:r>
            <a:br>
              <a:rPr sz="4400"/>
            </a:b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na koje se ne može utic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2708280"/>
            <a:ext cx="8964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Starost – može da se javi u bilo kom životnom dob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Pol – slično i kod žena i kod muškar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Rasa – veći rizik u crnoj i žutoj r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Nasleđe – genetski faktori (porodični slučajev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Faktori rizika za S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Pušenje cigar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Arterijska hiperten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Korišćenje koka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Zloupotreba alkoh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asledne bolesti vezivnog tkiva praćene pojavom aneuriz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- policistični bubr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- Ehler Danlosov sind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- Marfanov sind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- fibromuskularna displa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Intracerebralna hemoragu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Epidemiologija I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905120"/>
            <a:ext cx="896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0-15% u beloj 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30% u žutoj 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Visok mortalitet ali manji nego ran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30-60% u prvih mesec d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manje od 20% funkcionalno nezavis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Faktori rizika </a:t>
            </a:r>
            <a:br>
              <a:rPr sz="4400"/>
            </a:b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na koje se ne može utic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2708280"/>
            <a:ext cx="8964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Starost – raste sa godin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Pol – isti rizik kod muškaraca i kod ž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Rasa – veći rizik u crnoj i žutoj r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Nasleđe – genetski faktori, faktori sredine, stil života (zajednički za jednu porodi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Faktori rizik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2492280"/>
            <a:ext cx="852156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Hronična hiperten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tare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Zloupotreba alkoh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Antikoagulantna terap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Uzimanje simpatikomimetika i dro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¼ ICH može da se spreči energičnim lečenjem hipertenz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Moždani udar 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Definicija WH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Naglo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nastal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Fokalni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nekonvulzivni neurološki poremeć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Koji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traje duže od 60 minu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Ne može se otkriti drugi razlog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nastalog poremećaja sem vask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nih uzro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Proble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800" spc="-1" strike="noStrike">
                <a:solidFill>
                  <a:srgbClr val="ffff66"/>
                </a:solidFill>
                <a:latin typeface="Comic Sans MS"/>
              </a:rPr>
              <a:t>Recidiv I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800" spc="-1" strike="noStrike">
                <a:solidFill>
                  <a:srgbClr val="ffff66"/>
                </a:solidFill>
                <a:latin typeface="Comic Sans MS"/>
              </a:rPr>
              <a:t>        </a:t>
            </a:r>
            <a:r>
              <a:rPr b="1" lang="sr-Latn-CS" sz="2800" spc="-1" strike="noStrike">
                <a:solidFill>
                  <a:srgbClr val="ffff66"/>
                </a:solidFill>
                <a:latin typeface="Comic Sans MS"/>
              </a:rPr>
              <a:t>- unutar 72 sata od I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800" spc="-1" strike="noStrike">
                <a:solidFill>
                  <a:srgbClr val="ffff66"/>
                </a:solidFill>
                <a:latin typeface="Comic Sans MS"/>
              </a:rPr>
              <a:t>        </a:t>
            </a:r>
            <a:r>
              <a:rPr b="1" lang="sr-Latn-CS" sz="2800" spc="-1" strike="noStrike">
                <a:solidFill>
                  <a:srgbClr val="ffff66"/>
                </a:solidFill>
                <a:latin typeface="Comic Sans MS"/>
              </a:rPr>
              <a:t>- unutar 30 dana od I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Ishemični 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Primarna prev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rutinska primena antiagregacione terapije 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sprečava pojavu prvog IM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1. kontrola faktora rizika i koegzistirajućih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2. antiagregaciona terapija samo ako ima viš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faktora riz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3. Karotidna endarterekto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Ishemični 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Sekundarna prev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antiagregaciona terapija što pre, odmah 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doživljenom IMU i 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Karotidna endarterekto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Antiagregaciona terap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Acetilsalicilna kisel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Dipiridamol + acetilsalicilna kisel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Tienopiri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Poblemi S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Velika smrt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Rane komplik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Reruptura aneuriz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vazospaz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Kasne komplika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hidrocefa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Prvencija S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Primarna prev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otkrivanje asimptomatske aneurizme i hirurško il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endovaskularno zbrinja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kontrola faktora riz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Prvencija S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ekundarna prev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što ranija hirurška interv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Problemi I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Velika smrt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Komorbidite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Prvencija I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Kontrola faktora riz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Prvencija I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ekundarna prevenc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Hirurška intervencija ako se radi o aneuriz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Nagli prestanak cirkulacije u mo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83% Ishemični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tromboza arterija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embolija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bolest malih krvnih sudova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kriptogeni uzroci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17% Hemoragični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705720" y="1219320"/>
            <a:ext cx="24382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BA" sz="4400" spc="-1" strike="noStrike">
                <a:solidFill>
                  <a:srgbClr val="ffffb7"/>
                </a:solidFill>
                <a:latin typeface="Comic Sans MS"/>
              </a:rPr>
              <a:t>Moždana sm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Zašto dijagnostikujemo moždanu smr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- Donacija org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Moždano stab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- mesto gde se generiše svest - kvanti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Moždana ko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- mesto gde svest dobija kvalitativni sadrž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r-Latn-BA" sz="4400" spc="-1" strike="noStrike">
                <a:solidFill>
                  <a:srgbClr val="ffffb7"/>
                </a:solidFill>
                <a:latin typeface="Comic Sans MS"/>
              </a:rPr>
              <a:t>Kada je mozak mrtav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Klinički – refleksi moždanog stab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Elektrofiziološk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Moždana k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- E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Moždano stab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- somato senzorni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Transkranijalni dop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Comic Sans MS"/>
              </a:rPr>
              <a:t>Angiograf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Drugi uzrok smrtnosti u svetu (20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Srbija (2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Prvi uzrok smrtnosti že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Drugi uzrok smrtnosti muškara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vakih 45 sekundi neko doživi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Svaka 3 minuta neko umre od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Mortalitet od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Unutar 5 godina od MU -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Unutar 10 godina od MU –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rang ozbiljnih karcin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905120"/>
            <a:ext cx="8594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60% IMU ima okluziju koronarnih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30-35% bolesnika sa IMU ima značajnu koronarnu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Uzrok smr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41% IMU umre iz </a:t>
            </a:r>
            <a:r>
              <a:rPr b="1" lang="sr-Latn-CS" sz="2400" spc="-1" strike="noStrike">
                <a:solidFill>
                  <a:srgbClr val="ffff66"/>
                </a:solidFill>
                <a:latin typeface="Comic Sans MS"/>
              </a:rPr>
              <a:t>kardioloških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razlo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5% umre zbog rekurentnog 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Koegzistiranje IMU i MI ima loš prognostički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znač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Moždani u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Pacijent sa IMU ima 3 x veći rizik da razvije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Pacijent sa MI ima 3x veći rizik da razvije I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Pacijent sa kongestivnim srčanim oboljenjem ima 4x veći rizik da razvije I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Pacijent sa atrijalnim fibrilacijama ima 8x veći rizik da razvije I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20:00:46Z</dcterms:created>
  <dc:creator>Goca Toncev</dc:creator>
  <dc:description/>
  <dc:language>en-US</dc:language>
  <cp:lastModifiedBy>Gordana Toncev</cp:lastModifiedBy>
  <dcterms:modified xsi:type="dcterms:W3CDTF">2020-05-18T10:36:05Z</dcterms:modified>
  <cp:revision>17</cp:revision>
  <dc:subject/>
  <dc:title>Moždani udar Faktori rizika i prevencija</dc:title>
</cp:coreProperties>
</file>